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Click to move the slide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BC82-40DE-4A4C-A391-AE0E7A6695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4421-1F78-45A7-BB02-65C7B94D80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4A9-0F4A-41AD-A5D9-2CE3D10E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3A4-ABC4-44B8-AD0F-F6D3CEEF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CC4-489B-459C-BC36-B9FCEC0B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6A8-1BCD-4360-959D-0FBA4346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43ED-5A6D-4045-AF9F-7BBE1333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B8B8-B9AE-4272-B2EF-227DA0BB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28AF-ECE1-4EF8-9F48-9281D52A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CD48-5F38-446D-B251-F93E0375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9CB6-F149-4DEE-8A63-7AE3834F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9E27-9B2E-4EEC-A2D1-02F09C4F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CC5A-4986-4C0F-AFD5-4B63847B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73A-4554-4495-87FB-8DF0327E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ADE5-795F-4A4D-81BF-BEA14DF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48B4-2E90-4C9C-A32A-42829BC5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978C-67CA-47AB-8EDA-3D605E5E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2FF6-FD3C-45D6-B9E0-D9260B3C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FD36-8A65-44BE-8495-52BAF410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A11-28B9-405D-81C0-109F744E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821-667A-40AD-9E2B-6A1A1D03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E37-B684-4ABC-896C-BC954CBA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7FB-3B79-4C85-A24B-EAC068A1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E95-2EE8-49D2-8033-83E784BD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955-CEAB-46BB-A75D-222697BD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2C0-AE5A-41F4-B01A-CE42F51A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D4C1-5BDA-4D1D-B9A9-F731916F21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F4E9-CA6E-4CFA-90A5-498437783C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1125360"/>
            <a:ext cx="842508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 проект</a:t>
            </a:r>
            <a:br>
              <a:rPr sz="3600"/>
            </a:br>
            <a:r>
              <a:rPr b="1" lang="ru-RU" sz="6600" spc="-1" strike="noStrike">
                <a:solidFill>
                  <a:srgbClr val="000000"/>
                </a:solidFill>
                <a:latin typeface="Majestic"/>
                <a:ea typeface="Aharoni"/>
              </a:rPr>
              <a:t>Я – активный ребенок.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Majestic"/>
                <a:ea typeface="Aharoni"/>
              </a:rPr>
              <a:t>Учусь управлять собой.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0" name="Picture 5" descr="70578130"/>
          <p:cNvPicPr/>
          <p:nvPr/>
        </p:nvPicPr>
        <p:blipFill>
          <a:blip r:embed="rId1"/>
          <a:stretch/>
        </p:blipFill>
        <p:spPr>
          <a:xfrm>
            <a:off x="1476360" y="333360"/>
            <a:ext cx="7621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Анкетирование учеников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3-х классов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528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7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шает ли активность твоей уче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Диаграмма 3" descr=""/>
          <p:cNvPicPr/>
          <p:nvPr/>
        </p:nvPicPr>
        <p:blipFill>
          <a:blip r:embed="rId2"/>
          <a:stretch/>
        </p:blipFill>
        <p:spPr>
          <a:xfrm>
            <a:off x="344520" y="2730600"/>
            <a:ext cx="58626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Анкетирование учеников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3-х классов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7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омогает тебе управлять соб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Диаграмма 3" descr=""/>
          <p:cNvPicPr/>
          <p:nvPr/>
        </p:nvPicPr>
        <p:blipFill>
          <a:blip r:embed="rId2"/>
          <a:stretch/>
        </p:blipFill>
        <p:spPr>
          <a:xfrm>
            <a:off x="344520" y="2585880"/>
            <a:ext cx="58626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Анкетирование учеников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7-х классов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7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ли ты активным (малоуправляемым) ребен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 по 4 клас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3" descr=""/>
          <p:cNvPicPr/>
          <p:nvPr/>
        </p:nvPicPr>
        <p:blipFill>
          <a:blip r:embed="rId2"/>
          <a:stretch/>
        </p:blipFill>
        <p:spPr>
          <a:xfrm>
            <a:off x="344520" y="2730600"/>
            <a:ext cx="58626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Анкетирование учеников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7-х классов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528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7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шала ли активность твоей уче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Диаграмма 3" descr=""/>
          <p:cNvPicPr/>
          <p:nvPr/>
        </p:nvPicPr>
        <p:blipFill>
          <a:blip r:embed="rId2"/>
          <a:stretch/>
        </p:blipFill>
        <p:spPr>
          <a:xfrm>
            <a:off x="344520" y="2730600"/>
            <a:ext cx="58626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Анкетирование учеников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7-х классов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7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омогает тебе управлять соб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2"/>
          <a:stretch/>
        </p:blipFill>
        <p:spPr>
          <a:xfrm>
            <a:off x="560520" y="2585880"/>
            <a:ext cx="58626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Анкетирование учеников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7-х классов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7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шь  ли ты себя активным (малоуправляемым) ребенком в настоящее врем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Диаграмма 3" descr=""/>
          <p:cNvPicPr/>
          <p:nvPr/>
        </p:nvPicPr>
        <p:blipFill>
          <a:blip r:embed="rId2"/>
          <a:stretch/>
        </p:blipFill>
        <p:spPr>
          <a:xfrm>
            <a:off x="272880" y="2730600"/>
            <a:ext cx="586296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rcRect l="20892" t="15776" r="60643" b="7244"/>
          <a:stretch/>
        </p:blipFill>
        <p:spPr>
          <a:xfrm>
            <a:off x="1116000" y="1989000"/>
            <a:ext cx="3838680" cy="462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561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Советы для активного ребенка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000" y="1268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ь режим дня и четко е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придерживай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шко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делыва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конца любую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ву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кольных конкурсах, олимпиа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аивать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рок после перемены и урока физкультуры, делай дыхательные 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же упражнения можно делать, если ты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ервнич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шь здоровую пищу и пей витам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ши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портивную секцию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ай ее без переры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й учителя своим другом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ж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ы хочешь стать лучше, СТАРАЙ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920" y="24084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Советы для активного ребенка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43" name="Picture 5" descr="70578130"/>
          <p:cNvPicPr/>
          <p:nvPr/>
        </p:nvPicPr>
        <p:blipFill>
          <a:blip r:embed="rId7"/>
          <a:stretch/>
        </p:blipFill>
        <p:spPr>
          <a:xfrm>
            <a:off x="324000" y="549360"/>
            <a:ext cx="59832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4000" y="126792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а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жим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а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ё домашнее задание (во время работы   делай легкие перерывы – упражн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себя домашнюю обяза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пример, мыть обувь, выносить мус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  домашний конкурс на сам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тую комнату или другие интерес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ясня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дителям, что ты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шь, а шумишь, потому, что ус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920" y="24084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Советы для активного ребенка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46" name="Picture 5" descr="70578130"/>
          <p:cNvPicPr/>
          <p:nvPr/>
        </p:nvPicPr>
        <p:blipFill>
          <a:blip r:embed="rId6"/>
          <a:stretch/>
        </p:blipFill>
        <p:spPr>
          <a:xfrm>
            <a:off x="324000" y="549360"/>
            <a:ext cx="59832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26792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Работайте над собой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Вас ждёт успех!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ajestic"/>
              </a:rPr>
              <a:t>Гипотеза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2057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знать, являюсь ли я активным ребенком, проанализировать свое поведение и поведение других детей, то можно дать советы, как лучше управлять собой, чтобы быть успешным в учебе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ajestic"/>
              </a:rPr>
              <a:t>Цель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2057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поведение очень активных детей, влияние их активности на учебу в школе и разработать памятк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делать, чтобы научить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ть собой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2057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69850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ajestic"/>
              </a:rPr>
              <a:t>Задачи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67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3290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нать, кто такие «очень активные де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являюсь ли я «очень активным ребенк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анкетирование учащихся 3-х классов и узнать, много ли таких детей среди учеников наше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анкетирование учащихся 7-х классов и определить, может ли понизиться активность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-му клас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примерный план действий для организации активно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31284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Знакомство с источниками информации по теме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0" t="0" r="8016" b="14082"/>
          <a:stretch/>
        </p:blipFill>
        <p:spPr>
          <a:xfrm rot="15255600">
            <a:off x="1000800" y="2411640"/>
            <a:ext cx="2973240" cy="38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Рисунок 3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2271600" cy="170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Рисунок 4" descr=""/>
          <p:cNvPicPr/>
          <p:nvPr/>
        </p:nvPicPr>
        <p:blipFill>
          <a:blip r:embed="rId3"/>
          <a:srcRect l="0" t="4566" r="41853" b="30372"/>
          <a:stretch/>
        </p:blipFill>
        <p:spPr>
          <a:xfrm>
            <a:off x="3276720" y="3933720"/>
            <a:ext cx="1773000" cy="273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13744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Определение понятия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«активный ребенок»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2133720"/>
            <a:ext cx="8686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7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П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.., приставка. Образует существительные и прилагательные со знач. превышения предела, нормы. / С.И.Ожегов.Толковый словарь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7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-ая, -ое; -вен, -вна. 1. Деятельный, энергич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азвивающийся, усиленно действующий.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И.Ожегов.Толковый сло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Они стали знаменитыми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04" name="Объект 3" descr="zvezdy-s-sindromom-defitsita-vnimaniya-i-giperaktivnosti2.jpg"/>
          <p:cNvPicPr/>
          <p:nvPr/>
        </p:nvPicPr>
        <p:blipFill>
          <a:blip r:embed="rId1"/>
          <a:stretch/>
        </p:blipFill>
        <p:spPr>
          <a:xfrm>
            <a:off x="684360" y="1484280"/>
            <a:ext cx="1584000" cy="10303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05" name="Рисунок 4" descr="zvezdy-s-sindromom-defitsita-vnimaniya-i-giperaktivnosti3.jpg"/>
          <p:cNvPicPr/>
          <p:nvPr/>
        </p:nvPicPr>
        <p:blipFill>
          <a:blip r:embed="rId2"/>
          <a:srcRect l="24673" t="0" r="0" b="7960"/>
          <a:stretch/>
        </p:blipFill>
        <p:spPr>
          <a:xfrm>
            <a:off x="5268960" y="1901880"/>
            <a:ext cx="1368360" cy="12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6" name="Рисунок 5" descr="zvezdy-s-sindromom-defitsita-vnimaniya-i-giperaktivnosti5.jpg"/>
          <p:cNvPicPr/>
          <p:nvPr/>
        </p:nvPicPr>
        <p:blipFill>
          <a:blip r:embed="rId3"/>
          <a:stretch/>
        </p:blipFill>
        <p:spPr>
          <a:xfrm>
            <a:off x="2881440" y="3160800"/>
            <a:ext cx="108108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Рисунок 6" descr="zvezdy-s-sindromom-defitsita-vnimaniya-i-giperaktivnosti4.jpg"/>
          <p:cNvPicPr/>
          <p:nvPr/>
        </p:nvPicPr>
        <p:blipFill>
          <a:blip r:embed="rId4"/>
          <a:srcRect l="27341" t="0" r="0" b="6187"/>
          <a:stretch/>
        </p:blipFill>
        <p:spPr>
          <a:xfrm>
            <a:off x="971640" y="4869000"/>
            <a:ext cx="1224000" cy="1152360"/>
          </a:xfrm>
          <a:prstGeom prst="rect">
            <a:avLst/>
          </a:prstGeom>
          <a:ln w="9360">
            <a:solidFill>
              <a:srgbClr val="17375e"/>
            </a:solidFill>
            <a:round/>
          </a:ln>
        </p:spPr>
      </p:pic>
      <p:sp>
        <p:nvSpPr>
          <p:cNvPr id="108" name="Прямоугольник 7"/>
          <p:cNvSpPr/>
          <p:nvPr/>
        </p:nvSpPr>
        <p:spPr>
          <a:xfrm>
            <a:off x="2494080" y="1557360"/>
            <a:ext cx="2293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ейми Оли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ф - пов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2195640" y="4987800"/>
            <a:ext cx="158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йкл Хел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ов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9"/>
          <p:cNvSpPr/>
          <p:nvPr/>
        </p:nvSpPr>
        <p:spPr>
          <a:xfrm>
            <a:off x="4140360" y="3387600"/>
            <a:ext cx="122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им Кер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ё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6804000" y="2075040"/>
            <a:ext cx="158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л См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ё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"/>
          <p:cNvPicPr/>
          <p:nvPr/>
        </p:nvPicPr>
        <p:blipFill>
          <a:blip r:embed="rId1"/>
          <a:srcRect l="18234" t="0" r="0" b="21621"/>
          <a:stretch/>
        </p:blipFill>
        <p:spPr>
          <a:xfrm>
            <a:off x="7093080" y="2060640"/>
            <a:ext cx="190656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9" descr=""/>
          <p:cNvPicPr/>
          <p:nvPr/>
        </p:nvPicPr>
        <p:blipFill>
          <a:blip r:embed="rId2"/>
          <a:srcRect l="31494" t="32035" r="39703" b="17392"/>
          <a:stretch/>
        </p:blipFill>
        <p:spPr>
          <a:xfrm>
            <a:off x="147600" y="463680"/>
            <a:ext cx="1397160" cy="183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Picture 8" descr=""/>
          <p:cNvPicPr/>
          <p:nvPr/>
        </p:nvPicPr>
        <p:blipFill>
          <a:blip r:embed="rId3"/>
          <a:srcRect l="0" t="0" r="23153" b="0"/>
          <a:stretch/>
        </p:blipFill>
        <p:spPr>
          <a:xfrm>
            <a:off x="6084720" y="865080"/>
            <a:ext cx="1366920" cy="177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Анкетирование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и ответы на  вопрос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анкеты</a:t>
            </a:r>
            <a:endParaRPr b="0" lang="en-US" sz="24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4"/>
          <a:srcRect l="0" t="12532" r="0" b="0"/>
          <a:stretch/>
        </p:blipFill>
        <p:spPr>
          <a:xfrm>
            <a:off x="307800" y="2486160"/>
            <a:ext cx="64440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Анкетирование учеников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ajestic"/>
              </a:rPr>
              <a:t>3-х классов.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7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шь ли ты себя активным (малоуправляемым) ребен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Диаграмма 3" descr=""/>
          <p:cNvPicPr/>
          <p:nvPr/>
        </p:nvPicPr>
        <p:blipFill>
          <a:blip r:embed="rId2"/>
          <a:stretch/>
        </p:blipFill>
        <p:spPr>
          <a:xfrm>
            <a:off x="344520" y="2730600"/>
            <a:ext cx="58626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05:28:02Z</dcterms:created>
  <dc:creator>Оля</dc:creator>
  <dc:description/>
  <dc:language>en-US</dc:language>
  <cp:lastModifiedBy>учитель</cp:lastModifiedBy>
  <dcterms:modified xsi:type="dcterms:W3CDTF">2021-09-15T11:07:54Z</dcterms:modified>
  <cp:revision>49</cp:revision>
  <dc:subject/>
  <dc:title>Слайд 1</dc:title>
</cp:coreProperties>
</file>